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D51-44F1-48DB-9E03-A405A5DA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A3A-7F51-47E5-81DA-59E9FCEC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CCD9-BD6E-4535-B668-71AB221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6746C-E1FF-4B66-9BAA-9A1BF855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E80F-0C45-4207-9409-6DC1541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467F-A6D5-4E03-84B0-48FC945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B5863-2728-4F87-BB63-68FAA14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373D0-3F2D-4B93-BE7C-2E7256C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3B7EF-1188-4BCE-8C2A-24DC9C4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2098E-DC93-4940-A03B-E83160E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539E7-9AA0-47DC-9637-79FD608D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C2A-CB79-4ABF-B2C5-6D734854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A31-1000-4547-B4AA-56831431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99D-1A67-4498-8670-497C3B6F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FF26-DAFF-4C18-8CDF-2C7E1AE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DA0F-4F70-49EA-B3BD-1B0957D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C9F-3CEB-4BA9-AE64-CE852C4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89B3-A24D-4D5B-AEA6-795B57A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3685-C836-4D4A-9C1D-24BCE84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37D-1BB6-4589-B8A1-5CDF0B7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452-4D9F-41BC-87C0-19670B78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0F67-E7E8-4053-B4D7-3B053DC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D781-A963-4B19-A05D-8AA9CBB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FDD-5919-41F3-907A-700899B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F2E5-A865-4340-A2BB-92556928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F290-9CB4-4182-8909-61E7A5A3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741E-A9B0-4CCE-8B4B-A15292C7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389C-EE99-4AB9-B50F-EF2AE96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4C93-A6EF-414A-8D53-007A3C1C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7CE6-E06D-4D97-B441-6E593A59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8182-FEA0-4EEE-93BA-D0F4581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F87-44F5-44F9-BCE3-8796ECF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4112-EFF1-4F42-8698-15FB2EB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D189-C5B0-4E4C-BC9E-2E401DF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2DBB-DEB7-4621-94E2-928C7C5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F6BA-0809-45A6-9A07-DCB762F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7B8B-8AD9-47CD-87A5-32F726C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221E-9CFF-402D-820D-88EF75B3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2FB0-05C2-40F3-AC65-A5B4427D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BF00-DCBC-4F64-8091-6B5B01B1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A6C7-D298-40D8-98D1-BB24CB23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5841-63E1-4378-9C51-26E4202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ACD-2C55-49F3-B300-D785F15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25B25-1144-4E4F-9F5F-DE60F4EB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184C-C940-4AED-B6F7-301F07D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2779-24B9-47C3-9C99-1793E86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A81C-C69D-4260-A270-B7DE0FF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DD9F-572C-4B9F-ADC8-B6B7A321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90D7-BC3A-49B2-BDC8-1715A2A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DB73-A96E-4139-99E4-EC9FA5E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0668-AF71-4DCF-9BF2-69C0CB5C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0F74-F13C-48B2-9F09-6A15FA93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6010-963B-4506-AC7C-7F14507C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9BC-9EE1-4EAA-8A45-996796F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719F8-98C5-4FA6-8092-9383A4FB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6D72-690B-4CC6-9432-F6F3E53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BE48-8E0A-43EF-BA89-CDB808AE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CF2E-E73F-4A09-9976-7372BA4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5667-690B-4A9E-A612-6482104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B347-02E1-4144-85E1-51DD228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E668-33A5-4C1B-A5B4-842A3C6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7F0D-D232-4044-B0E4-ADDF868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B5E1-1DE4-4B60-89CB-8AF2F199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7B5E-3306-4D28-A11E-BA3CE9BD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9F4-C168-4DCF-8A31-0B04A3C1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59BED-7EA2-4C19-B862-0A5ADDF1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46C2-D904-453A-83E7-F521F1B7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4E024-ED83-4D26-91BD-B58E21A0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A9BF-F27E-4608-A48E-7A511A60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6218-6873-4F7D-9E47-1546A95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4210-0412-45DD-B2AF-096BAB62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751B-B95A-4A7D-B53C-45E4B07B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A7BEE-CAFA-4E07-B3F5-34DFE6B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2182-2F92-4AE0-BADB-741FF00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1FF7-3EED-4224-98C9-1E76DFA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C48-A092-4046-ADF8-CC9099F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C6DBF-2B25-4B6B-BC5F-D6FEA7C7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F547-EBEC-41A5-88AD-F2DC3016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F667-1D0E-48F3-8AD3-79E66B1A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4500C-2B64-4E42-8FF9-2F31EF5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94A5C-DD0A-40DA-A984-ABB25C6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FB4AB-1647-4B4C-A9D5-4BA05B83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8AF46-6B0E-41CF-9C8F-BC8B1CD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32B78-BDF2-41F9-AD8C-5CFB410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5F078-49CC-4C58-ADD4-325A080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223ED-78D9-4809-B9B7-F28C8E6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027-4E6E-4841-BA4C-2174F0C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19581-E9E8-4EBB-BA53-550573B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0951B-43A9-4311-AA48-BDE6862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5FAF3-D924-4EAC-9BDA-5C4609E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B500C-C36F-48CD-B712-64861E54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7CF12-E6DB-455C-9B24-51B99014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4955-C442-4DE4-9828-3EEBEDAE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CBF2-D3D9-4928-8BF9-82BCB6A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50BA-E8F7-4448-B6AB-30F2598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8C32-024F-4B03-A498-2A4CC7C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0C5A-EEF1-4E6C-BE43-0FC612DC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3A8-1816-4E6C-BA60-BBB902D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9374-8ABD-4AEB-A94E-9A35BB1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CCAF-18EA-4F68-8331-F282C590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EF9F6-8B2D-41E2-85E4-BE4AA07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1367-B0AC-43C5-8FE9-D9FBD4C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6247A-FDF5-45A1-A65A-6D59B766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738DD-5AAB-439D-BBB3-891DCEBA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A367-861D-4DC6-AFCF-5B95E445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1A9D2-6FF5-4AFA-A6AE-7FE067BE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1A7C-10BB-4DBE-9ADD-5110C74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BC8C-65E9-472B-81B8-D57A469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0EF7-F088-4B7A-B987-C7AE184C4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AF6-4840-4029-ACCA-4ACCD2EE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0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525B-5113-4485-BA69-625B6247DC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4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4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6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2EB-DE8B-4D99-BCDE-AA54E6607E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F817-C771-4629-BD10-7A0A4DDC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E8B5-99FD-473C-B118-CDFBA2CF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815-F2C0-44D7-96B5-671C2F80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3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3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855-8023-4C7B-BB84-22AC3857AD1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4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4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2CAC-6E09-4912-9B7E-6815077C94C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something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5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7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8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9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0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1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2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3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4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5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6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the blogs, wikis, podcasts and social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7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8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/>
            <a:ahLst/>
            <a:rect l="l" t="t" r="r" b="b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/>
            <a:ahLst/>
            <a:rect l="l" t="t" r="r" b="b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/>
            <a:ahLst/>
            <a:rect l="l" t="t" r="r" b="b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5"/>
          <p:cNvSpPr/>
          <p:nvPr/>
        </p:nvSpPr>
        <p:spPr>
          <a:xfrm rot="20241600">
            <a:off x="1066320" y="2437920"/>
            <a:ext cx="6853320" cy="2803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c1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69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bfd1e7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f0d4d4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1531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e0c1e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57868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ing for what he had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onto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600200" y="685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7a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295280" y="380880"/>
            <a:ext cx="289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Edwin Sanchez</cp:lastModifiedBy>
  <dcterms:modified xsi:type="dcterms:W3CDTF">2010-04-10T23:12:18Z</dcterms:modified>
  <cp:revision>6</cp:revision>
  <dc:subject/>
  <dc:title>Slide 1</dc:title>
</cp:coreProperties>
</file>